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806938" cy="30279975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152920" y="595440"/>
            <a:ext cx="26792280" cy="35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176720"/>
                <a:tab algn="l" pos="835344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40200" y="7085160"/>
            <a:ext cx="3852648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6720"/>
                <a:tab algn="l" pos="835344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140200" y="16257960"/>
            <a:ext cx="3852648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6720"/>
                <a:tab algn="l" pos="835344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152920" y="595440"/>
            <a:ext cx="26792280" cy="35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176720"/>
                <a:tab algn="l" pos="835344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40200" y="7085160"/>
            <a:ext cx="1880064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6720"/>
                <a:tab algn="l" pos="835344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1881160" y="7085160"/>
            <a:ext cx="1880064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6720"/>
                <a:tab algn="l" pos="835344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40200" y="16257960"/>
            <a:ext cx="1880064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6720"/>
                <a:tab algn="l" pos="835344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1881160" y="16257960"/>
            <a:ext cx="1880064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6720"/>
                <a:tab algn="l" pos="835344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152920" y="595440"/>
            <a:ext cx="26792280" cy="35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176720"/>
                <a:tab algn="l" pos="835344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40200" y="7085160"/>
            <a:ext cx="1240524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6720"/>
                <a:tab algn="l" pos="835344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5166080" y="7085160"/>
            <a:ext cx="1240524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6720"/>
                <a:tab algn="l" pos="835344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8191960" y="7085160"/>
            <a:ext cx="1240524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6720"/>
                <a:tab algn="l" pos="835344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140200" y="16257960"/>
            <a:ext cx="1240524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6720"/>
                <a:tab algn="l" pos="835344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15166080" y="16257960"/>
            <a:ext cx="1240524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6720"/>
                <a:tab algn="l" pos="835344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28191960" y="16257960"/>
            <a:ext cx="1240524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6720"/>
                <a:tab algn="l" pos="835344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52920" y="595440"/>
            <a:ext cx="26792280" cy="35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176720"/>
                <a:tab algn="l" pos="835344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140200" y="7085160"/>
            <a:ext cx="38526480" cy="1756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51"/>
              </a:spcBef>
              <a:buNone/>
              <a:tabLst>
                <a:tab algn="l" pos="0"/>
                <a:tab algn="l" pos="4176720"/>
                <a:tab algn="l" pos="835344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52920" y="595440"/>
            <a:ext cx="26792280" cy="35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176720"/>
                <a:tab algn="l" pos="835344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40200" y="7085160"/>
            <a:ext cx="38526480" cy="1756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6720"/>
                <a:tab algn="l" pos="835344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52920" y="595440"/>
            <a:ext cx="26792280" cy="35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176720"/>
                <a:tab algn="l" pos="835344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40200" y="7085160"/>
            <a:ext cx="18800640" cy="1756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6720"/>
                <a:tab algn="l" pos="835344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1881160" y="7085160"/>
            <a:ext cx="18800640" cy="1756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6720"/>
                <a:tab algn="l" pos="835344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52920" y="595440"/>
            <a:ext cx="26792280" cy="35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176720"/>
                <a:tab algn="l" pos="835344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152920" y="595440"/>
            <a:ext cx="26792280" cy="163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51"/>
              </a:spcBef>
              <a:tabLst>
                <a:tab algn="l" pos="0"/>
                <a:tab algn="l" pos="4176720"/>
                <a:tab algn="l" pos="835344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152920" y="595440"/>
            <a:ext cx="26792280" cy="35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176720"/>
                <a:tab algn="l" pos="835344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40200" y="7085160"/>
            <a:ext cx="1880064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6720"/>
                <a:tab algn="l" pos="835344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1881160" y="7085160"/>
            <a:ext cx="18800640" cy="1756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6720"/>
                <a:tab algn="l" pos="835344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140200" y="16257960"/>
            <a:ext cx="1880064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6720"/>
                <a:tab algn="l" pos="835344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152920" y="595440"/>
            <a:ext cx="26792280" cy="35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176720"/>
                <a:tab algn="l" pos="835344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40200" y="7085160"/>
            <a:ext cx="18800640" cy="1756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6720"/>
                <a:tab algn="l" pos="835344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1881160" y="7085160"/>
            <a:ext cx="1880064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6720"/>
                <a:tab algn="l" pos="835344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1881160" y="16257960"/>
            <a:ext cx="1880064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6720"/>
                <a:tab algn="l" pos="835344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52920" y="595440"/>
            <a:ext cx="26792280" cy="35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176720"/>
                <a:tab algn="l" pos="835344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40200" y="7085160"/>
            <a:ext cx="1880064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6720"/>
                <a:tab algn="l" pos="835344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1881160" y="7085160"/>
            <a:ext cx="1880064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6720"/>
                <a:tab algn="l" pos="835344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40200" y="16257960"/>
            <a:ext cx="38526480" cy="83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6720"/>
                <a:tab algn="l" pos="8353440"/>
              </a:tabLst>
            </a:pP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d"/>
            </a:gs>
            <a:gs pos="100000">
              <a:srgbClr val="acda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403440" y="525600"/>
            <a:ext cx="36075960" cy="3665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176720"/>
                <a:tab algn="l" pos="8353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46040" y="4626000"/>
            <a:ext cx="10188720" cy="24988680"/>
          </a:xfrm>
          <a:custGeom>
            <a:avLst/>
            <a:gdLst>
              <a:gd name="textAreaLeft" fmla="*/ 169200 w 10188720"/>
              <a:gd name="textAreaRight" fmla="*/ 10019520 w 10188720"/>
              <a:gd name="textAreaTop" fmla="*/ 169200 h 24988680"/>
              <a:gd name="textAreaBottom" fmla="*/ 24819480 h 24988680"/>
            </a:gdLst>
            <a:ahLst/>
            <a:rect l="textAreaLeft" t="textAreaTop" r="textAreaRight" b="textAreaBottom"/>
            <a:pathLst>
              <a:path w="21600" h="52975">
                <a:moveTo>
                  <a:pt x="1225" y="0"/>
                </a:moveTo>
                <a:arcTo wR="1225" hR="1225" stAng="16200000" swAng="-5400000"/>
                <a:lnTo>
                  <a:pt x="0" y="51750"/>
                </a:lnTo>
                <a:arcTo wR="1225" hR="1225" stAng="10800000" swAng="-5400000"/>
                <a:lnTo>
                  <a:pt x="20375" y="52975"/>
                </a:lnTo>
                <a:arcTo wR="1225" hR="1225" stAng="5400000" swAng="-5400000"/>
                <a:lnTo>
                  <a:pt x="21600" y="1225"/>
                </a:lnTo>
                <a:arcTo wR="1225" hR="1225" stAng="0" swAng="-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022120" y="4626000"/>
            <a:ext cx="10188360" cy="24988680"/>
          </a:xfrm>
          <a:custGeom>
            <a:avLst/>
            <a:gdLst>
              <a:gd name="textAreaLeft" fmla="*/ 169200 w 10188360"/>
              <a:gd name="textAreaRight" fmla="*/ 10019160 w 10188360"/>
              <a:gd name="textAreaTop" fmla="*/ 169200 h 24988680"/>
              <a:gd name="textAreaBottom" fmla="*/ 24819480 h 24988680"/>
            </a:gdLst>
            <a:ahLst/>
            <a:rect l="textAreaLeft" t="textAreaTop" r="textAreaRight" b="textAreaBottom"/>
            <a:pathLst>
              <a:path w="21600" h="52977">
                <a:moveTo>
                  <a:pt x="1225" y="0"/>
                </a:moveTo>
                <a:arcTo wR="1225" hR="1225" stAng="16200000" swAng="-5400000"/>
                <a:lnTo>
                  <a:pt x="0" y="51752"/>
                </a:lnTo>
                <a:arcTo wR="1225" hR="1225" stAng="10800000" swAng="-5400000"/>
                <a:lnTo>
                  <a:pt x="20375" y="52977"/>
                </a:lnTo>
                <a:arcTo wR="1225" hR="1225" stAng="5400000" swAng="-5400000"/>
                <a:lnTo>
                  <a:pt x="21600" y="1225"/>
                </a:lnTo>
                <a:arcTo wR="1225" hR="1225" stAng="0" swAng="-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1597840" y="4626000"/>
            <a:ext cx="10188720" cy="24988680"/>
          </a:xfrm>
          <a:custGeom>
            <a:avLst/>
            <a:gdLst>
              <a:gd name="textAreaLeft" fmla="*/ 169200 w 10188720"/>
              <a:gd name="textAreaRight" fmla="*/ 10019520 w 10188720"/>
              <a:gd name="textAreaTop" fmla="*/ 169200 h 24988680"/>
              <a:gd name="textAreaBottom" fmla="*/ 24819480 h 24988680"/>
            </a:gdLst>
            <a:ahLst/>
            <a:rect l="textAreaLeft" t="textAreaTop" r="textAreaRight" b="textAreaBottom"/>
            <a:pathLst>
              <a:path w="21600" h="52975">
                <a:moveTo>
                  <a:pt x="1225" y="0"/>
                </a:moveTo>
                <a:arcTo wR="1225" hR="1225" stAng="16200000" swAng="-5400000"/>
                <a:lnTo>
                  <a:pt x="0" y="51750"/>
                </a:lnTo>
                <a:arcTo wR="1225" hR="1225" stAng="10800000" swAng="-5400000"/>
                <a:lnTo>
                  <a:pt x="20375" y="52975"/>
                </a:lnTo>
                <a:arcTo wR="1225" hR="1225" stAng="5400000" swAng="-5400000"/>
                <a:lnTo>
                  <a:pt x="21600" y="1225"/>
                </a:lnTo>
                <a:arcTo wR="1225" hR="1225" stAng="0" swAng="-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166000" y="4626000"/>
            <a:ext cx="10188360" cy="24988680"/>
          </a:xfrm>
          <a:custGeom>
            <a:avLst/>
            <a:gdLst>
              <a:gd name="textAreaLeft" fmla="*/ 169200 w 10188360"/>
              <a:gd name="textAreaRight" fmla="*/ 10019160 w 10188360"/>
              <a:gd name="textAreaTop" fmla="*/ 169200 h 24988680"/>
              <a:gd name="textAreaBottom" fmla="*/ 24819480 h 24988680"/>
            </a:gdLst>
            <a:ahLst/>
            <a:rect l="textAreaLeft" t="textAreaTop" r="textAreaRight" b="textAreaBottom"/>
            <a:pathLst>
              <a:path w="21600" h="52977">
                <a:moveTo>
                  <a:pt x="1225" y="0"/>
                </a:moveTo>
                <a:arcTo wR="1225" hR="1225" stAng="16200000" swAng="-5400000"/>
                <a:lnTo>
                  <a:pt x="0" y="51752"/>
                </a:lnTo>
                <a:arcTo wR="1225" hR="1225" stAng="10800000" swAng="-5400000"/>
                <a:lnTo>
                  <a:pt x="20375" y="52977"/>
                </a:lnTo>
                <a:arcTo wR="1225" hR="1225" stAng="5400000" swAng="-5400000"/>
                <a:lnTo>
                  <a:pt x="21600" y="1225"/>
                </a:lnTo>
                <a:arcTo wR="1225" hR="1225" stAng="0" swAng="-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52920" y="595440"/>
            <a:ext cx="26792280" cy="35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176720"/>
                <a:tab algn="l" pos="835344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2140200" y="7085160"/>
            <a:ext cx="38526480" cy="1756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66720" indent="-1566720">
              <a:spcBef>
                <a:spcPts val="3651"/>
              </a:spcBef>
              <a:buClr>
                <a:srgbClr val="000000"/>
              </a:buClr>
              <a:buFont typeface="Arial"/>
              <a:buChar char="•"/>
              <a:tabLst>
                <a:tab algn="l" pos="4176720"/>
                <a:tab algn="l" pos="835344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  <a:p>
            <a:pPr lvl="1" marL="3394080" indent="-130644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4176720"/>
                <a:tab algn="l" pos="835344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2" marL="5221440" indent="-104472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83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3" marL="7308720" indent="-1044360">
              <a:spcBef>
                <a:spcPts val="2276"/>
              </a:spcBef>
              <a:buClr>
                <a:srgbClr val="000000"/>
              </a:buClr>
              <a:buFont typeface="Arial"/>
              <a:buChar char="–"/>
              <a:tabLst>
                <a:tab algn="l" pos="835344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lvl="4" marL="9396360" indent="-1042920">
              <a:spcBef>
                <a:spcPts val="2276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9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lvl="5" marL="9396360" indent="-1042920">
              <a:spcBef>
                <a:spcPts val="22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  <a:p>
            <a:pPr lvl="6" marL="9396360" indent="-1042920">
              <a:spcBef>
                <a:spcPts val="22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d"/>
            </a:gs>
            <a:gs pos="100000">
              <a:srgbClr val="acda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68080" y="5881680"/>
            <a:ext cx="7315200" cy="6767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487400" y="10591920"/>
            <a:ext cx="2895480" cy="580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near degeneracy lead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so-called half-metalli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992720" y="10058400"/>
            <a:ext cx="380880" cy="1447920"/>
          </a:xfrm>
          <a:prstGeom prst="ellipse">
            <a:avLst/>
          </a:prstGeom>
          <a:noFill/>
          <a:ln w="2844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6230240" y="10744200"/>
            <a:ext cx="7621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152920" y="595440"/>
            <a:ext cx="26792280" cy="35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176720"/>
                <a:tab algn="l" pos="835344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14:03:38Z</dcterms:created>
  <dc:creator>ang</dc:creator>
  <dc:description/>
  <dc:language>en-US</dc:language>
  <cp:lastModifiedBy>tburnus</cp:lastModifiedBy>
  <dcterms:modified xsi:type="dcterms:W3CDTF">2007-10-09T07:53:40Z</dcterms:modified>
  <cp:revision>95</cp:revision>
  <dc:subject/>
  <dc:title>SFB 608 Poster Layout</dc:title>
</cp:coreProperties>
</file>