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435-58AD-49A2-A7D2-D2724194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10A-9DD4-42C8-BAFD-7B3E0CBD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6DA-8EE7-4A1A-9B07-6A520D1F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D84-4D41-4A4B-8C40-8BDDA536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E580-FCA2-405B-BBD1-233F9E1C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0BE2-0640-4035-B544-80D00862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DC3F-A4B9-49C8-8411-1B6E57C8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CF1B-1B2F-4D8E-963A-642397C4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19D9-5F74-4250-A9EB-9198F58C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6326-D26F-4B5F-ACB2-022C2558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8F8-FC54-4152-9561-126F04B0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EBD-737B-455D-8365-E2F51DC2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EA96-3530-4197-8CB0-708E1D1DB4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4360" y="1989000"/>
          <a:ext cx="7848360" cy="1852920"/>
        </p:xfrm>
        <a:graphic>
          <a:graphicData uri="http://schemas.openxmlformats.org/drawingml/2006/table">
            <a:tbl>
              <a:tblPr/>
              <a:tblGrid>
                <a:gridCol w="2808000"/>
                <a:gridCol w="5040360"/>
              </a:tblGrid>
              <a:tr h="13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 of test cas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C30FFCSD_FontWork_VerticalText0010.p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ature name:</a:t>
                      </a:r>
                      <a:r>
                        <a:rPr b="0" lang="zh-CN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tWork and Extrusion interoperability with MS Off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 points (Foc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ext in the fontwork is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ertical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 rot="5400000">
            <a:off x="-326880" y="2247840"/>
            <a:ext cx="6629400" cy="2590560"/>
          </a:xfrm>
          <a:prstGeom prst="rect">
            <a:avLst/>
          </a:prstGeom>
        </p:spPr>
        <p:txBody>
          <a:bodyPr wrap="none" lIns="90000" rIns="90000" tIns="46800" bIns="46800" anchor="t" vert="eaVert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Shape of  the font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   Arch  U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three line text  t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  fourth   t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02:49:03Z</dcterms:created>
  <dc:creator>jiyu</dc:creator>
  <dc:description/>
  <dc:language>en-US</dc:language>
  <cp:lastModifiedBy>wangwenhuan</cp:lastModifiedBy>
  <dcterms:modified xsi:type="dcterms:W3CDTF">2006-07-06T07:10:32Z</dcterms:modified>
  <cp:revision>25</cp:revision>
  <dc:subject/>
  <dc:title>Slide 1</dc:title>
</cp:coreProperties>
</file>