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F56-7D2E-42D1-9F5F-7C0AAB75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28D-22DC-48C0-8D1C-1C21E262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78D-AF60-48B8-A4D1-4CB6F3A3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2D0-B3BB-4CC6-89D8-69282FD0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9E0-D2DC-4FEC-ABE6-1668FFF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E00-186A-49C6-B2D0-DC24C80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5C3-545F-474C-A5FB-B4ED562D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8DF-54CF-4A0F-942C-83076B4C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255-14B7-467F-9781-9CF220A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CD7-9F22-46C4-8A92-1B18BA6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CAF-9B02-4D91-8661-1031736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D76-E9CB-4D4F-93BF-FF925445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451-BA19-4512-B359-FC31DA28D6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4360" y="1989000"/>
          <a:ext cx="7848360" cy="1852920"/>
        </p:xfrm>
        <a:graphic>
          <a:graphicData uri="http://schemas.openxmlformats.org/drawingml/2006/table">
            <a:tbl>
              <a:tblPr/>
              <a:tblGrid>
                <a:gridCol w="2808000"/>
                <a:gridCol w="5040360"/>
              </a:tblGrid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of test ca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C30FFCSD_FontWork_VerticalText0010.p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ature name:</a:t>
                      </a:r>
                      <a:r>
                        <a:rPr b="0" lang="zh-CN" sz="16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tWork and Extrusion interoperability with MS Off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points (Foc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in the fontwork is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ertical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5400000">
            <a:off x="-326880" y="2247840"/>
            <a:ext cx="6629400" cy="2590560"/>
          </a:xfrm>
          <a:prstGeom prst="rect">
            <a:avLst/>
          </a:prstGeom>
        </p:spPr>
        <p:txBody>
          <a:bodyPr wrap="none" lIns="90000" rIns="90000" tIns="46800" bIns="46800" anchor="t" vert="eaVert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hape of  the fontwor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s   Arch  U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three line text  t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  fourth   t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2:49:03Z</dcterms:created>
  <dc:creator>jiyu</dc:creator>
  <dc:description/>
  <dc:language>en-US</dc:language>
  <cp:lastModifiedBy>wangwenhuan</cp:lastModifiedBy>
  <dcterms:modified xsi:type="dcterms:W3CDTF">2006-07-06T07:10:32Z</dcterms:modified>
  <cp:revision>25</cp:revision>
  <dc:subject/>
  <dc:title>Slide 1</dc:title>
</cp:coreProperties>
</file>